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win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408E-5340-4883-A168-163EC8E1833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РОИСХОЖДЕНИЕ  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4BC1-A1F1-4BF0-98DC-96B44B3427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бразуются зародыши, их круговые или почти круговые орбиты не пересек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508C-53CB-4878-A69E-5CD22CF225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4FF8-74AC-4844-A05F-595C590ADF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D941-8D79-4355-BB3F-76EC14C7D0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9CC7-F5E4-4119-A588-2A4925D9E8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ланет, издавна считавшееся спокойны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тационарным процессом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йствитель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лось весьма хаотичес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5362-62FE-4F7F-99AF-91EF721443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450B-5542-43B4-9AD3-80DB8E7AFB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5B3C-0B98-49FE-8C7E-D97E7F1E31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6BBA-F18F-4518-850A-83658ED13B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4E8A-E3AD-4391-AFED-2F6E16B8D4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естественных спутников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78F6-AA18-4C97-9D49-B649F658273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10B1-FB5B-4D31-ABD7-043CECB975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ЯСНЕНИЕ НЕКРУГОВОГО ДВИЖЕНИЯ  ПЛАНЕ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нутренней области Солнечной системы зародыши планет не могут ра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1D14-EE32-43AC-B307-C65C43C038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C74-2163-4775-A692-1B2DEDD7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9468-426A-4B04-B5A2-F58B94B9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0FC-0499-46D6-951D-9C0083E0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C1C-7808-45A6-8B0A-8D9EB963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4345-EDAC-4E9D-88C9-591C8FBC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24BE-B837-4CCE-BC60-7AE541A4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D43E-4F9A-4A91-B549-31C91DF2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E8C3-1212-49DD-95A2-6FA49269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0BD2-F39C-4361-93A9-3D765DFA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62E0-E4A5-45F0-9D01-D578128C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1D23-7467-4F3F-9703-4FF7841D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76C-C76B-4F44-9967-D4383909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B75A-B0FE-4520-AE51-2AE359E6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5F9C-DDE7-4C41-ACD5-A510FF18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557D-540E-43EE-85A4-295EF2F3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30F7-315B-4911-A36A-4D2F80BE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C199-3867-4F13-A2A3-EBAEF370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FDD-5343-473B-BDC1-4C02E8DF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911-A99B-42E3-9E15-DF145635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8E5-E16D-4927-9295-DFFFFF80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A56-9A72-4BF3-9BEF-372A2687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BF9D-1271-4024-A8DF-63824807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FAC-6862-4D09-A795-132ADA4D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243-4B51-4025-8BFD-FE307A04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EADC-4F59-4720-B5A6-A6E94D0F88D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4943-F2D7-4681-8BC3-CF5CA93707E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42920" y="142920"/>
            <a:ext cx="878688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ИСХОЖДЕНИЕ   ПЛАН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4714920" y="2714760"/>
            <a:ext cx="2722680" cy="35892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remov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remov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remov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огда образуются зародыши, их круговые или почти круговые орбиты не пересекаютс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2" name="Picture 8" descr="astronomy6"/>
          <p:cNvPicPr/>
          <p:nvPr/>
        </p:nvPicPr>
        <p:blipFill>
          <a:blip r:embed="rId1"/>
          <a:stretch/>
        </p:blipFill>
        <p:spPr>
          <a:xfrm>
            <a:off x="1187280" y="2565360"/>
            <a:ext cx="7062840" cy="3351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6" descr="1"/>
          <p:cNvPicPr/>
          <p:nvPr/>
        </p:nvPicPr>
        <p:blipFill>
          <a:blip r:embed="rId1"/>
          <a:stretch/>
        </p:blipFill>
        <p:spPr>
          <a:xfrm>
            <a:off x="1258920" y="2781360"/>
            <a:ext cx="6810480" cy="32893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8" name="Picture 6" descr="2"/>
          <p:cNvPicPr/>
          <p:nvPr/>
        </p:nvPicPr>
        <p:blipFill>
          <a:blip r:embed="rId1"/>
          <a:stretch/>
        </p:blipFill>
        <p:spPr>
          <a:xfrm>
            <a:off x="1116000" y="2637000"/>
            <a:ext cx="6810480" cy="32605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1260360" y="0"/>
            <a:ext cx="990432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Заключение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16000" y="1844280"/>
            <a:ext cx="77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50" autoRev="1" fill="remov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remov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" dur="250" autoRev="1" fill="remov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9288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Формирование планет, издавна считавшееся спокойным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 стационарным процессом,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 действительности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казалось весьма хаотически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" descr="p192111_big"/>
          <p:cNvPicPr/>
          <p:nvPr/>
        </p:nvPicPr>
        <p:blipFill>
          <a:blip r:embed="rId1"/>
          <a:stretch/>
        </p:blipFill>
        <p:spPr>
          <a:xfrm>
            <a:off x="2124000" y="2924280"/>
            <a:ext cx="5112000" cy="3566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640080" y="6491160"/>
            <a:ext cx="85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ная планета-гигант захватывает газ из диска вокруг новорожденной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5778360" y="1268280"/>
            <a:ext cx="3365640" cy="443736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" dur="2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image_large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14200" y="356760"/>
            <a:ext cx="71438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99640" y="836280"/>
            <a:ext cx="69454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роисхождение естественных спутников плане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СНОВНЫЕ ПОЛОЖ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БЪЯСНЕНИЕ НЕКРУГОВОГО ДВИЖЕНИЯ  ПЛАНЕТ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242100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нутренней области Солнечной системы зародыши планет не могут ра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6:59:41Z</dcterms:created>
  <dc:creator>П.А.С.</dc:creator>
  <dc:description/>
  <dc:language>en-US</dc:language>
  <cp:lastModifiedBy>LEGION</cp:lastModifiedBy>
  <dcterms:modified xsi:type="dcterms:W3CDTF">2015-01-12T14:25:10Z</dcterms:modified>
  <cp:revision>13</cp:revision>
  <dc:subject/>
  <dc:title>Слайд 1</dc:title>
</cp:coreProperties>
</file>